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620-E97E-444F-AFF8-E8B3F4C6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21A-20E6-40D2-B915-2E909D7C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496-322A-45A0-BE1B-2A4145A4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1AC-ED2A-46A1-9B15-DECBC18A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F6F-C2A2-46A7-B574-4719EBD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E40-2E31-4200-ABB9-6F237B4D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81C-FAEB-414D-AF70-F7F19D88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2F6-9816-4405-9D06-250A000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397-484A-4423-8FAE-4E374C4D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DA2-3A68-4BEA-83BB-99F5533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D19-B3D5-42DE-B96E-A7F52DB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147-E5ED-41E8-9FBF-B69D2DA0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9E24-AD1B-4883-85EB-8033031EC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-value for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-Sided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16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010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029040"/>
            <a:ext cx="7467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752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Two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3105000"/>
            <a:ext cx="7391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27Z</dcterms:modified>
  <cp:revision>41</cp:revision>
  <dc:subject/>
  <dc:title>PowerPoint Presentation</dc:title>
</cp:coreProperties>
</file>